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92320" y="680760"/>
            <a:ext cx="4478400" cy="335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268520"/>
            <a:ext cx="502920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8"/>
          </p:nvPr>
        </p:nvSpPr>
        <p:spPr>
          <a:xfrm>
            <a:off x="-36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9"/>
          </p:nvPr>
        </p:nvSpPr>
        <p:spPr>
          <a:xfrm>
            <a:off x="388584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F87D-6AD8-40F1-8838-C2564DB1812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2D74-98DA-4419-B775-5269EBC1794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2320" y="669960"/>
            <a:ext cx="4475160" cy="3355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2960" y="4251240"/>
            <a:ext cx="50320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584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07CC-34FC-46E0-AD9D-D35725C1EE1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3760" y="6732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249800"/>
            <a:ext cx="50292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584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DEED-2B78-4693-B276-F7EA7BF103C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2320" y="669960"/>
            <a:ext cx="4475160" cy="3355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2960" y="4251240"/>
            <a:ext cx="50320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8584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1ABA-D7F7-413E-8A12-0AF7D7A25DF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92320" y="681120"/>
            <a:ext cx="4478400" cy="33591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268520"/>
            <a:ext cx="502920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ve personal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Thank you for co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presenters and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usekee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remember to fill out the form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you have to leave early visit the booth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92320" y="681120"/>
            <a:ext cx="4478400" cy="33591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268520"/>
            <a:ext cx="502920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ers’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se are the general areas for discu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’ll be helped by representatives of a number of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A815-6EB9-41CD-A221-FE5A77CE09F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93760" y="6732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249800"/>
            <a:ext cx="50292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6AB-0372-4AB8-857E-5BC70917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337-0E8D-4AA6-8365-8173F1B1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167-DB8B-48C8-861C-75624AE8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8AE-3CF0-4832-8225-7F95C3FE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C1C9-4B51-4717-99DA-9785ABA9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93A1-F40E-4FA0-9B5F-EE2B651D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05BC-3556-4492-87A8-3B4070EB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D8A6-B1B9-4AC7-BF98-E59B4215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830B-FD48-4A0D-A3E1-891ACE04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8E83-1328-47C1-9B34-D750425C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A17F-2ED7-45AF-AC4C-D713ECAB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0FB-8326-4DE3-B3A9-A6B16FD1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B017-8C71-4826-B6FA-9A713FFE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CF48-B768-42C0-A632-D8B07EA6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31DC-CA2F-4AA4-8D15-F91F244B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87F4-5888-4D21-96AC-03CEFC11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ACAD-8BB2-4590-B96F-61C79F1C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F3C-2B58-4AFE-B5FF-EF1D88BE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C0F-158D-48B6-9495-5C35853C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3CD-0EF6-44EC-A3EE-86FF54DA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40E-91EF-4E26-929C-339D1524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BE8-1401-4F5B-A97F-07D18DD9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70A-153B-4F1E-AF9B-FFCA2159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FF5-2C03-4424-A3BB-10A2F8B1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840"/>
            <a:chOff x="0" y="4206960"/>
            <a:chExt cx="9166320" cy="285084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99ff33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efe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5DFA-C24D-4802-BBCE-9E2F0B0D55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4280"/>
            <a:chOff x="0" y="533520"/>
            <a:chExt cx="9177480" cy="652428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99ff33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efe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7756-7923-423F-BFCF-E74626A5BE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Brewer-041109-a-NAA%20short%20version-Committee-diagram.ppt" TargetMode="External"/><Relationship Id="rId2" Type="http://schemas.openxmlformats.org/officeDocument/2006/relationships/hyperlink" Target="file:///../../Brewer-041109-a-NAA%20short%20version-Committee-diagram.ppt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case.info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viationeducation.org/" TargetMode="External"/><Relationship Id="rId2" Type="http://schemas.openxmlformats.org/officeDocument/2006/relationships/hyperlink" Target="http://www.faa.gov/education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tioneducation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../WebWhacker4/All/aviationeducation.org/html/memberdetail2.htm" TargetMode="External"/><Relationship Id="rId2" Type="http://schemas.openxmlformats.org/officeDocument/2006/relationships/hyperlink" Target="file:///../../WebWhacker4/All/aviationeducation.org/html/memberdetail22.htm" TargetMode="External"/><Relationship Id="rId3" Type="http://schemas.openxmlformats.org/officeDocument/2006/relationships/hyperlink" Target="file:///../../WebWhacker4/All/nasao.org/index.html" TargetMode="External"/><Relationship Id="rId4" Type="http://schemas.openxmlformats.org/officeDocument/2006/relationships/hyperlink" Target="file:///../../WebWhacker4/All/aviationeducation.org/html/memberdetail21.htm" TargetMode="External"/><Relationship Id="rId5" Type="http://schemas.openxmlformats.org/officeDocument/2006/relationships/hyperlink" Target="file:///../../WebWhacker4/All/capnhq.gov/index.html" TargetMode="External"/><Relationship Id="rId6" Type="http://schemas.openxmlformats.org/officeDocument/2006/relationships/hyperlink" Target="http://www.careersinaviation.org/" TargetMode="External"/><Relationship Id="rId7" Type="http://schemas.openxmlformats.org/officeDocument/2006/relationships/hyperlink" Target="file:///../../catherding.mpeg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WebWhacker4/All/faa.gov/education/index.cfm.htm" TargetMode="External"/><Relationship Id="rId2" Type="http://schemas.openxmlformats.org/officeDocument/2006/relationships/hyperlink" Target="file:///../../WebWhacker4/All/faa.gov/education/index.cfm.h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CAE develops a focus ...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a national dialogue on the future of aviation and space educ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A Brewer Forum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Educational Surv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vailable at    www.aviationeducation.org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nd          www.wolf-aviation.org</a:t>
            </a:r>
            <a:br>
              <a:rPr sz="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s telling us wha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and their students n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ideas and partnership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you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deas !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: aviation education provides a unique opportunity to inspire while educat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45268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22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CAE / NAA Education Committe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4097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primary focus: 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ucture and Support the National Coalition for Aviation Educ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Plan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W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oups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1"/>
              </a:rPr>
              <a:t>link to P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00520" y="3124080"/>
            <a:ext cx="2614680" cy="209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771640" y="1738440"/>
          <a:ext cx="359568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738440"/>
                    <a:ext cx="359568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”=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209680"/>
            <a:ext cx="2362320" cy="9169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al &amp; Informal Education: Teacher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, &amp; Famil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33960" y="4753080"/>
            <a:ext cx="251460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iation Interest 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ship Grou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95480" y="1220760"/>
            <a:ext cx="270432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artment of Edu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5840" y="2362320"/>
            <a:ext cx="193176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iation Industr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lines, Union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erospace Fi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86040" y="4491000"/>
            <a:ext cx="140904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ess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e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67160" y="1219320"/>
            <a:ext cx="219708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General Publi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3480" y="1676520"/>
            <a:ext cx="28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grate av ed into progra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lect useful mater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7440" y="3733920"/>
            <a:ext cx="25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v ed as a tool f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imulating career 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3124080"/>
            <a:ext cx="30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cilitate development and delivery of better and more relevant mater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28760" y="524844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cGraw-Hi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2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9440" y="5129280"/>
            <a:ext cx="31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ted Communication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affecting ALL constituenc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880" y="586728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spapers in Edu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4400" y="2313000"/>
            <a:ext cx="21495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ore Effor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Focus, Support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ordination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mmunication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nd Public Outr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63160" y="3962520"/>
            <a:ext cx="203076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iation agenc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affili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6080" y="160020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ordinated education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reach effor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mpaign for Aviation and Space 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520" y="3639960"/>
            <a:ext cx="2847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AMPAIGN FOR AVI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ND SPACE EDU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14720" y="462456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CAE webs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5562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CASE 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895480"/>
            <a:ext cx="3962160" cy="6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2911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CASE 2006 &amp; 08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3040" y="3574800"/>
            <a:ext cx="3525840" cy="19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viation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ce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ncase.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ponsor: NC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9920" y="393840"/>
            <a:ext cx="3843360" cy="5092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366560" y="5535720"/>
            <a:ext cx="1708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hoto Show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se Irfan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50160" y="5638680"/>
            <a:ext cx="216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ck for Webs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800" y="533520"/>
            <a:ext cx="3962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CASE 2005 &amp; 0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6800" y="1247760"/>
            <a:ext cx="35258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ship Con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viation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ce 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lcase.inf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5144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Q  &amp;  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28720"/>
            <a:ext cx="77724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s, Ques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s for Information:</a:t>
            </a:r>
            <a:br>
              <a:rPr sz="3200"/>
            </a:br>
            <a:br>
              <a:rPr sz="1200"/>
            </a:br>
            <a:br>
              <a:rPr sz="1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CA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1"/>
              </a:rPr>
              <a:t>www.aviationeducation.or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A Website:         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2"/>
              </a:rPr>
              <a:t>www.faa.gov/educ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lf Aviation Fund:  www.wolf-aviation.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162920" y="762120"/>
            <a:ext cx="74268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1371600" cy="825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568600" y="2025720"/>
            <a:ext cx="5334120" cy="3525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tional Coalition for Aviation Educatio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ources, Outreach, and Partnershi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66640" y="297180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Conference 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iation and Space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 Murrow, NCAE Director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lia Bauer, FAA National Aviation Education Program Manager, Retired!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681280" cy="154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438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day’s Discussio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39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CAE - a gateway to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Coalition for Aviation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e of Partnerships &amp; Mutual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resources and NCAE web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ap-up -Q &amp;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ational Coalition for Aviation Educ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-18504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than fifty listed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85040" indent="-185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Product: a Printed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5040" indent="-18504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: NCAE website first sponsored by National Aeronautics Association (NAA)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 u="sng">
                <a:solidFill>
                  <a:srgbClr val="ffff66"/>
                </a:solidFill>
                <a:uFillTx/>
                <a:latin typeface="Arial"/>
                <a:hlinkClick r:id="rId1"/>
              </a:rPr>
              <a:t>www.aviationeducation.or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85040" indent="-18504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ed for a National Vision &amp;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85040" indent="-18504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CASE and NCASE con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NCAE Gui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5435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NCAE Grou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04760" y="129492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1"/>
              </a:rPr>
              <a:t>4-H Aerospace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2"/>
              </a:rPr>
              <a:t>E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A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Civil Air Patrol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6"/>
              </a:rPr>
              <a:t>Careers in Av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lf Aviation Fu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nt Project Example: AVSCHOLARS.C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:    LESSONS LEAR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Others !!!!    </a:t>
            </a:r>
            <a:r>
              <a:rPr b="0" lang="en-US" sz="1600" spc="-1" strike="noStrike" u="sng">
                <a:solidFill>
                  <a:srgbClr val="ffff66"/>
                </a:solidFill>
                <a:uFillTx/>
                <a:latin typeface="Arial"/>
                <a:hlinkClick r:id="rId7"/>
              </a:rPr>
              <a:t>[clip]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3152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 u="sng">
                <a:solidFill>
                  <a:srgbClr val="ffff66"/>
                </a:solidFill>
                <a:uFillTx/>
                <a:latin typeface="Arial"/>
                <a:hlinkClick r:id="rId1"/>
              </a:rPr>
              <a:t>www.faa.gov</a:t>
            </a:r>
            <a:r>
              <a:rPr b="0" lang="en-US" sz="3600" spc="-1" strike="noStrike" u="sng">
                <a:solidFill>
                  <a:srgbClr val="ffff66"/>
                </a:solidFill>
                <a:uFillTx/>
                <a:latin typeface="Arial"/>
                <a:hlinkClick r:id="rId2"/>
              </a:rPr>
              <a:t>/edu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A Website -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ateway to re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A Support for Aviation Education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 Aviation Education Program Mana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eers within FA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rs and Spea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ons - Events &amp; Initi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y groups - many progra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879480"/>
            <a:ext cx="304812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oundation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ero Club Foundation of Washingt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erospace Education Alli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erospace Education Foundatio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reers in Av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AA Aviation Found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ashington Times Newspapers in Education Program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athen Found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olf Aviation Fu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overnm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4-H Aerospace Education Progr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mobile - Science Museum of Virgin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viation Council of Pennsylvan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ederal Aviation Administ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eronautics and Space Administ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ssociation of State Aviation Officia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val Sea Cade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. S. Centennial of Flight Commissio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.S. Department of Edu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irginia Department of Av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est Chester University- Helicopter Muse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ilot/Fligh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cademy of Model Aeronaut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craft Owners &amp; Pilots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Be A Pil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ivil Air Patr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ichard Klein &amp; Associ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aring Society of Amer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e Ninety-Nines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.S. Ultralight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omen In Aviation, Intern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81680" y="882720"/>
            <a:ext cx="3552840" cy="52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abo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 Line Pilots Association, Intern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ternational Association of Machinists and Aerospace Work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chool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hicago Youth in Aviation, Inc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niel Webster Colle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agnet Schools of America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niversity Aviation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rade Association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erospace Industries Associati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HS International - The Vertical Flight Socie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 Traffic Control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 Transport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craft Electronics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ports Council Intl-North Amer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merican Association of Airport Executiv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merican Institute of Aeronautics &amp; Astronaut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viation Distributors &amp; Manufacturers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eneral Aviation Manufacturers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elicopter Association Intern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ternational Society of Aviation Maintenance Professiona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Ken Cook Compan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eronautic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gricultural Aviation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ir Carrier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ir Transportation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ircraft Resale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Business Aviation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rofessional Aviation Maintenance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gional Airline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23Z</dcterms:created>
  <dc:creator>wrm</dc:creator>
  <dc:description/>
  <dc:language>en-US</dc:language>
  <cp:lastModifiedBy>William Murrow</cp:lastModifiedBy>
  <cp:lastPrinted>2002-04-05T18:53:30Z</cp:lastPrinted>
  <dcterms:modified xsi:type="dcterms:W3CDTF">2009-03-31T19:35:56Z</dcterms:modified>
  <cp:revision>256</cp:revision>
  <dc:subject/>
  <dc:title> NCAE Resources for Aviation Education</dc:title>
</cp:coreProperties>
</file>